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73C6-5A06-424F-B040-EA8CC8544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6015-4DE0-49D5-8397-A7AED43C5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6177-3A83-4D3B-8DC2-02D69F8DB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12 A partial genetic (linkage) map of a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rosophil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B8FE-CD65-49F4-8979-8DB1852D7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85EA-D8FF-417A-98F2-1E24EEA25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13 Meiotic nondisj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1EEC-0B42-46AE-95FF-57AFCE62B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CB3B-D1D0-453C-9804-C90816F43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CC76-491E-498B-925E-50711E6FA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F3E7-F872-470E-A9BA-F11873F95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58AA-293C-4BC4-ADEB-6C343FD58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16 Down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3215-5B69-453A-B36C-97D8463D1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A8F2-94AE-4C8B-A7F3-F1908C902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5149-5492-4133-9729-7E81D6253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1DD7-8826-423C-834A-8BCC709FE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2B1B-0B69-4C09-A9C2-66C14AD11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15 Alterations of chromosom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FD2A-D405-4A37-A184-D2E5C544F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8272-B168-4B0D-ACD9-99C468362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62CC-9D26-4506-A3AD-30ABF32B7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BA2A-F2E5-42C4-A83B-D3EFA3DDE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19 Variegated leaves from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roton dioi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02BF-D148-4FA5-97A3-1CA6F3796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F0DF-9D8D-4822-9F01-0352AA375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1DE5-776C-46C1-8AE4-6CF740295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2EA6-A0CD-48E2-9484-871FE9777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9E09-2473-43C2-ADF5-A26CDC451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2490-DBC5-4EF9-A14D-F603B2E39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B4CF-6627-44F2-B051-BE12AA555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11 Constructing a linkage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2795-1FD9-4980-9B16-573278304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012F-CE3C-4959-A68D-D4F22715E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4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90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6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04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190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76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04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90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76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228240" y="5791320"/>
            <a:ext cx="85345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0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1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77" name="Rectangle 22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78" name="Rectangle 2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3469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81" name="Rectangle 26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hapter 15</a:t>
            </a:r>
            <a:endParaRPr b="1" lang="en-US" sz="5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37960" y="1531440"/>
            <a:ext cx="8677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63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993366"/>
                </a:solidFill>
                <a:latin typeface="Times New Roman"/>
              </a:rPr>
              <a:t>The Chromosomal Basis of Inheritance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15_12DrosLinkageMap-U"/>
          <p:cNvPicPr/>
          <p:nvPr/>
        </p:nvPicPr>
        <p:blipFill>
          <a:blip r:embed="rId1"/>
          <a:stretch/>
        </p:blipFill>
        <p:spPr>
          <a:xfrm>
            <a:off x="297000" y="174600"/>
            <a:ext cx="8548560" cy="65851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5-12</a:t>
            </a:r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3195720" y="177840"/>
            <a:ext cx="27637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utant phenotypes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312840" y="622440"/>
            <a:ext cx="9982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istae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2992320" y="635040"/>
            <a:ext cx="8334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4160880" y="622440"/>
            <a:ext cx="12650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innabar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5634000" y="622440"/>
            <a:ext cx="12272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estigial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ings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7920000" y="622440"/>
            <a:ext cx="998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7920000" y="5156280"/>
            <a:ext cx="693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5392800" y="5156280"/>
            <a:ext cx="1036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ings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4287960" y="5156280"/>
            <a:ext cx="693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3106800" y="5156280"/>
            <a:ext cx="718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Gray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312840" y="5168880"/>
            <a:ext cx="18237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ong aristae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(appendages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n head)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3017880" y="6210360"/>
            <a:ext cx="30178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ild-type phenotypes</a:t>
            </a:r>
            <a:endParaRPr b="0" lang="en-US" sz="23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731880" y="2679840"/>
            <a:ext cx="1857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3538440" y="2679840"/>
            <a:ext cx="528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8.5</a:t>
            </a:r>
            <a:endParaRPr b="0" lang="en-US" sz="2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4363920" y="2679840"/>
            <a:ext cx="528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7.5</a:t>
            </a:r>
            <a:endParaRPr b="0" lang="en-US" sz="2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94" name="Text Box 24"/>
          <p:cNvSpPr/>
          <p:nvPr/>
        </p:nvSpPr>
        <p:spPr>
          <a:xfrm>
            <a:off x="5519880" y="2679840"/>
            <a:ext cx="5284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7.0</a:t>
            </a:r>
            <a:endParaRPr b="0" lang="en-US" sz="20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95" name="Text Box 25"/>
          <p:cNvSpPr/>
          <p:nvPr/>
        </p:nvSpPr>
        <p:spPr>
          <a:xfrm>
            <a:off x="8008920" y="2679840"/>
            <a:ext cx="668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4.5</a:t>
            </a:r>
            <a:endParaRPr b="0" lang="en-US" sz="20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15.4: Alterations of chromosome number or structure cause some genetic disorde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04480" y="1155600"/>
            <a:ext cx="8534520" cy="56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ge-scale chromosomal alterations often lead to spontaneous abortions (miscarriages) or cause a variety of developmental disor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ndisjun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pairs of homologous chromosomes do not separate normally during mei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a result, one gamete receives two of the same type of chromosome, and another gamete receives no cop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2" descr="15_13Nondisjunction_3-U"/>
          <p:cNvPicPr/>
          <p:nvPr/>
        </p:nvPicPr>
        <p:blipFill>
          <a:blip r:embed="rId1"/>
          <a:stretch/>
        </p:blipFill>
        <p:spPr>
          <a:xfrm>
            <a:off x="293760" y="338040"/>
            <a:ext cx="8555040" cy="62564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3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5-13-3</a:t>
            </a:r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4008600" y="343080"/>
            <a:ext cx="12650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eiosis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1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2973240" y="1628640"/>
            <a:ext cx="1506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disjunction</a:t>
            </a:r>
            <a:endParaRPr b="0" lang="en-US" sz="16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05" name="Line 16"/>
          <p:cNvSpPr/>
          <p:nvPr/>
        </p:nvSpPr>
        <p:spPr>
          <a:xfrm>
            <a:off x="2332080" y="1468440"/>
            <a:ext cx="60156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351000" y="5937120"/>
            <a:ext cx="37764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Nondisjunction of homologous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es in meiosi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5176800" y="5929200"/>
            <a:ext cx="3100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Nondisjunction of sister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atids in meiosi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3998880" y="2158920"/>
            <a:ext cx="12654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eiosis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1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3868560" y="3451320"/>
            <a:ext cx="15066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disjunction</a:t>
            </a:r>
            <a:endParaRPr b="0" lang="en-US" sz="16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10" name="Line 21"/>
          <p:cNvSpPr/>
          <p:nvPr/>
        </p:nvSpPr>
        <p:spPr>
          <a:xfrm flipV="1">
            <a:off x="5367240" y="3303360"/>
            <a:ext cx="150840" cy="28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11" name="Text Box 22"/>
          <p:cNvSpPr/>
          <p:nvPr/>
        </p:nvSpPr>
        <p:spPr>
          <a:xfrm>
            <a:off x="4014720" y="3927600"/>
            <a:ext cx="11257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21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12" name="Text Box 23"/>
          <p:cNvSpPr/>
          <p:nvPr/>
        </p:nvSpPr>
        <p:spPr>
          <a:xfrm>
            <a:off x="3405240" y="5540400"/>
            <a:ext cx="2471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chromosomes</a:t>
            </a:r>
            <a:endParaRPr b="0" lang="en-US" sz="16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13" name="Text Box 24"/>
          <p:cNvSpPr/>
          <p:nvPr/>
        </p:nvSpPr>
        <p:spPr>
          <a:xfrm>
            <a:off x="522360" y="5108400"/>
            <a:ext cx="515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17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14" name="Text Box 25"/>
          <p:cNvSpPr/>
          <p:nvPr/>
        </p:nvSpPr>
        <p:spPr>
          <a:xfrm>
            <a:off x="1521000" y="5100480"/>
            <a:ext cx="515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17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15" name="Text Box 26"/>
          <p:cNvSpPr/>
          <p:nvPr/>
        </p:nvSpPr>
        <p:spPr>
          <a:xfrm>
            <a:off x="5094360" y="5108400"/>
            <a:ext cx="515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17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16" name="Text Box 27"/>
          <p:cNvSpPr/>
          <p:nvPr/>
        </p:nvSpPr>
        <p:spPr>
          <a:xfrm>
            <a:off x="2538360" y="5100480"/>
            <a:ext cx="515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– 1</a:t>
            </a:r>
            <a:endParaRPr b="0" lang="en-US" sz="17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17" name="Text Box 28"/>
          <p:cNvSpPr/>
          <p:nvPr/>
        </p:nvSpPr>
        <p:spPr>
          <a:xfrm>
            <a:off x="3521160" y="5099040"/>
            <a:ext cx="5158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– 1</a:t>
            </a:r>
            <a:endParaRPr b="0" lang="en-US" sz="17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18" name="Text Box 29"/>
          <p:cNvSpPr/>
          <p:nvPr/>
        </p:nvSpPr>
        <p:spPr>
          <a:xfrm>
            <a:off x="6102360" y="5110200"/>
            <a:ext cx="5158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– 1</a:t>
            </a:r>
            <a:endParaRPr b="0" lang="en-US" sz="17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19" name="Text Box 30"/>
          <p:cNvSpPr/>
          <p:nvPr/>
        </p:nvSpPr>
        <p:spPr>
          <a:xfrm>
            <a:off x="7296120" y="5103720"/>
            <a:ext cx="1936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20" name="Text Box 31"/>
          <p:cNvSpPr/>
          <p:nvPr/>
        </p:nvSpPr>
        <p:spPr>
          <a:xfrm>
            <a:off x="8318520" y="5103720"/>
            <a:ext cx="1936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04480" y="1176480"/>
            <a:ext cx="853452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euploid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from the fertilization of gametes in which nondisjunction occur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spring with this condition have an abnormal number of a particular chromos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nosom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ygote has only one copy of a particular chromos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isom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ygote has three copies of a particular chromos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15.4: Alterations of chromosome number or structure cause some genetic disorde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04480" y="1176120"/>
            <a:ext cx="853452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lyploid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condition in which an organism has more than two complete sets of chromos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ploidy (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three sets of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traploidy (4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four sets of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yploidy is common in plants, but not anim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yploids are more normal in appearance than aneuplo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15.4: Alterations of chromosome number or structure cause some genetic disorde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Human Disorders Due to Chromosomal Alteration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04480" y="1164960"/>
            <a:ext cx="85345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erations of chromosome number and structure are associated with some serious disor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types of aneuploidy appear to upset the genetic balance less than others, resulting in individuals surviving to birth and bey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surviving individuals have a set of symptoms, or syndrome, characteristic of the type of aneuploi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Down Syndrome (Trisomy 21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04480" y="1164960"/>
            <a:ext cx="853452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wn syndrom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n aneuploid condition that results from three copies of chromosome 2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ffects about one out of every 700 children born in the United St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requency of Down syndrome increases with the age of the mother, a correlation that has not been explai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7" descr="15_16-DownSyndrome-L"/>
          <p:cNvPicPr/>
          <p:nvPr/>
        </p:nvPicPr>
        <p:blipFill>
          <a:blip r:embed="rId1"/>
          <a:stretch/>
        </p:blipFill>
        <p:spPr>
          <a:xfrm>
            <a:off x="1577880" y="174600"/>
            <a:ext cx="5988240" cy="65851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5-16</a:t>
            </a:r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540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neuploidy of Sex Chromosom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6560" y="1164960"/>
            <a:ext cx="894708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Klinefelter syndrom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result of an extra chromosome in a male, producing XXY individ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46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  <p:pic>
        <p:nvPicPr>
          <p:cNvPr id="248" name="Picture 8" descr=""/>
          <p:cNvPicPr/>
          <p:nvPr/>
        </p:nvPicPr>
        <p:blipFill>
          <a:blip r:embed="rId1"/>
          <a:stretch/>
        </p:blipFill>
        <p:spPr>
          <a:xfrm>
            <a:off x="0" y="3124080"/>
            <a:ext cx="5702400" cy="3733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2"/>
          <a:stretch/>
        </p:blipFill>
        <p:spPr>
          <a:xfrm>
            <a:off x="5232240" y="2743200"/>
            <a:ext cx="3911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540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neuploidy of Sex Chromosom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96560" y="1165320"/>
            <a:ext cx="719460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osomy X, called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Turner syndro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produces X0 females, who are sterile; it is the only known viable monosomy in huma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  <p:pic>
        <p:nvPicPr>
          <p:cNvPr id="255" name="Picture 7" descr=""/>
          <p:cNvPicPr/>
          <p:nvPr/>
        </p:nvPicPr>
        <p:blipFill>
          <a:blip r:embed="rId1"/>
          <a:stretch/>
        </p:blipFill>
        <p:spPr>
          <a:xfrm>
            <a:off x="6553080" y="2698920"/>
            <a:ext cx="2057400" cy="3873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"/>
          <p:cNvPicPr/>
          <p:nvPr/>
        </p:nvPicPr>
        <p:blipFill>
          <a:blip r:embed="rId2"/>
          <a:stretch/>
        </p:blipFill>
        <p:spPr>
          <a:xfrm>
            <a:off x="304920" y="3048120"/>
            <a:ext cx="54734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81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plain the chromosomal theory of inheritance and its 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plain why sex-linked diseases are more common in human males than fe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tinguish between sex-linked genes and linked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plain how meiosis accounts for recombinant pheno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how linkage maps are constru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how nondisjunction can lead to aneuplo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risomy, triploidy, and polyplo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inguish among deletions, duplications, inversions, and trans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genomic impri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why extranuclear genes are not inherited in a Mendelian fash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125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304920" y="68580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terations of Chromosome Structu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age of a chromosome can lead to four types of changes in chromosome structu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e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a chromosomal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plic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s a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r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s a segment within a chrom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loc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s a segment from one chromosome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60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7" descr="15_15ChromoAlterations-U"/>
          <p:cNvPicPr/>
          <p:nvPr/>
        </p:nvPicPr>
        <p:blipFill>
          <a:blip r:embed="rId1"/>
          <a:stretch/>
        </p:blipFill>
        <p:spPr>
          <a:xfrm>
            <a:off x="590400" y="168120"/>
            <a:ext cx="7963200" cy="65977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Fig. 15-15</a:t>
            </a:r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3989520" y="320760"/>
            <a:ext cx="846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1170000" y="203040"/>
            <a:ext cx="2522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B  C   D  E     F  G  H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5297400" y="203040"/>
            <a:ext cx="2306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B   C  E     F  G  H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636480" y="396720"/>
            <a:ext cx="2872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636480" y="1895400"/>
            <a:ext cx="2872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623880" y="3457440"/>
            <a:ext cx="2872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70" name="Text Box 15"/>
          <p:cNvSpPr/>
          <p:nvPr/>
        </p:nvSpPr>
        <p:spPr>
          <a:xfrm>
            <a:off x="649440" y="4892760"/>
            <a:ext cx="2872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)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71" name="Text Box 16"/>
          <p:cNvSpPr/>
          <p:nvPr/>
        </p:nvSpPr>
        <p:spPr>
          <a:xfrm>
            <a:off x="3811680" y="1832040"/>
            <a:ext cx="11761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plication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72" name="Text Box 17"/>
          <p:cNvSpPr/>
          <p:nvPr/>
        </p:nvSpPr>
        <p:spPr>
          <a:xfrm>
            <a:off x="4116240" y="3432240"/>
            <a:ext cx="10112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rsion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3900600" y="5121360"/>
            <a:ext cx="14302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iprocal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ocation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74" name="Text Box 19"/>
          <p:cNvSpPr/>
          <p:nvPr/>
        </p:nvSpPr>
        <p:spPr>
          <a:xfrm>
            <a:off x="1182600" y="1714680"/>
            <a:ext cx="2522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B  C   D  E     F  G  H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75" name="Text Box 20"/>
          <p:cNvSpPr/>
          <p:nvPr/>
        </p:nvSpPr>
        <p:spPr>
          <a:xfrm>
            <a:off x="1170000" y="3276720"/>
            <a:ext cx="2522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B  C   D  E     F  G  H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1182600" y="4724280"/>
            <a:ext cx="2522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B  C   D  E     F  G  H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5310360" y="1714680"/>
            <a:ext cx="3132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B   C  B  C  D   E     F  G  H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5665680" y="3276720"/>
            <a:ext cx="2522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D  C   B  E     F  G  H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5640480" y="4724280"/>
            <a:ext cx="28526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 N  O   C  D   E    F  G  H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80" name="Text Box 25"/>
          <p:cNvSpPr/>
          <p:nvPr/>
        </p:nvSpPr>
        <p:spPr>
          <a:xfrm>
            <a:off x="1157400" y="5727600"/>
            <a:ext cx="1950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 N  O   P  Q    R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81" name="Text Box 26"/>
          <p:cNvSpPr/>
          <p:nvPr/>
        </p:nvSpPr>
        <p:spPr>
          <a:xfrm>
            <a:off x="5640480" y="5727600"/>
            <a:ext cx="1646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 B   P  Q    R</a:t>
            </a:r>
            <a:endParaRPr b="0" lang="en-US" sz="18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Disorders Caused by Structurally Altered Chromosom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06280" y="1165320"/>
            <a:ext cx="588960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ndro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i du ch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“cry of the cat”), results from a specific deletion in chromosome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ild born with this syndrome is mentally retarded and has a catlike cry; individuals usually die in infancy or early child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cancers, includ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ronic myelogenous leukem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ML), are caused by translocations of chrom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85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  <p:pic>
        <p:nvPicPr>
          <p:cNvPr id="287" name="Picture 7" descr=""/>
          <p:cNvPicPr/>
          <p:nvPr/>
        </p:nvPicPr>
        <p:blipFill>
          <a:blip r:embed="rId1"/>
          <a:stretch/>
        </p:blipFill>
        <p:spPr>
          <a:xfrm>
            <a:off x="6286680" y="1066680"/>
            <a:ext cx="2857320" cy="3657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"/>
          <p:cNvPicPr/>
          <p:nvPr/>
        </p:nvPicPr>
        <p:blipFill>
          <a:blip r:embed="rId2"/>
          <a:stretch/>
        </p:blipFill>
        <p:spPr>
          <a:xfrm>
            <a:off x="5562720" y="4343400"/>
            <a:ext cx="2124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15.5: Some inheritance patterns are exceptions to the standard chromosome theo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05920" y="1165320"/>
            <a:ext cx="853452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two normal exceptions to Mendelian gene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exception involves genes located in the nucleus, and the other exception involves genes located outside the nucl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92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984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Inheritance of Organelle Gen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04480" y="1231560"/>
            <a:ext cx="8534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85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xtranuclear gen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ytoplasmic gen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genes found in organelles in the cytopla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85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tochondria, chloroplasts, and other plant plastids carry small circular DNA molec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85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ranuclear genes are inherited maternally because the zygote’s cytoplasm comes from the eg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85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irst evidence of extranuclear genes came from studies on the inheritance of yellow or white patches on leaves of an otherwise green pl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97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7" descr="15_19ExtranuclearInherit-U"/>
          <p:cNvPicPr/>
          <p:nvPr/>
        </p:nvPicPr>
        <p:blipFill>
          <a:blip r:embed="rId1"/>
          <a:stretch/>
        </p:blipFill>
        <p:spPr>
          <a:xfrm>
            <a:off x="2178000" y="841320"/>
            <a:ext cx="4786200" cy="524988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5-19</a:t>
            </a:r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204480" y="1176120"/>
            <a:ext cx="8534520" cy="31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defects in mitochondrial genes prevent cells from making enough ATP and result in diseases that affect the muscular and nervous syst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mitochondrial myopathy and Leber’s hereditary optic neuro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15984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Inheritance of Organelle Gen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67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chromosomal theory of inheritance and its 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why sex-linked diseases are more common in human males than fe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inguish between sex-linked genes and linked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how meiosis accounts for recombinant pheno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how linkage maps are constru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how nondisjunction can lead to aneuplo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risomy, triploidy, and polyploi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inguish among deletions, duplications, inversions, and trans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genomic impri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why extranuclear genes are not inherited in a Mendelian fash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125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09" name="Line 5"/>
          <p:cNvSpPr/>
          <p:nvPr/>
        </p:nvSpPr>
        <p:spPr>
          <a:xfrm>
            <a:off x="304920" y="68580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05920" y="1752480"/>
            <a:ext cx="85345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gan found that body color and wing size are usually inherited together in specific combinations (parental phenotyp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noted that these genes do not assort independently, and reasoned that they were on the same chrom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nonparental phenotypes were also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is result involves explo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tic recomb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production of offspring with combinations of traits differing from either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36" name="Line 25"/>
          <p:cNvSpPr/>
          <p:nvPr/>
        </p:nvSpPr>
        <p:spPr>
          <a:xfrm>
            <a:off x="304920" y="14479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51920" y="76320"/>
            <a:ext cx="84582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15.3: Linked genes tend to be inherited together because they are located near each other on the same chromosom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84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combination of Linked Genes: Crossing Over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04480" y="1164960"/>
            <a:ext cx="85345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gan discovered that genes can be linked, but the linkage was incomplete, as evident from recombinant phenoty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rgan proposed that some process must sometimes break the physical connection between genes on the same chromos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mechanism was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ing over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 homologous chromos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716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apping the Distance Between Genes Using Recombination Data: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Scientific Inqui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165320"/>
            <a:ext cx="853452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fred Sturtevant, one of Morgan’s students, constructed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enetic ma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 ordered list of the genetic loci along a particular chromos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rtevant predicted tha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 farther apart two genes are, the higher the probability that a crossover will occur between them and therefore the higher the recombination frequ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04480" y="1185840"/>
            <a:ext cx="853452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nkage map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enetic map of a chromosome based on recombination frequenc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ances between genes can be expressed a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p uni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one map unit, or centimorgan, represents a 1% recombination frequ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p units indicate relative distance and order, not precise locations of 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22716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apping the Distance Between Genes Using Recombination Data: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Scientific Inqui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15_11ConstructLinkageMap-U"/>
          <p:cNvPicPr/>
          <p:nvPr/>
        </p:nvPicPr>
        <p:blipFill>
          <a:blip r:embed="rId1"/>
          <a:stretch/>
        </p:blipFill>
        <p:spPr>
          <a:xfrm>
            <a:off x="293760" y="1433520"/>
            <a:ext cx="8555040" cy="40672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7"/>
          <p:cNvSpPr/>
          <p:nvPr/>
        </p:nvSpPr>
        <p:spPr>
          <a:xfrm>
            <a:off x="317520" y="1460520"/>
            <a:ext cx="2641680" cy="457200"/>
          </a:xfrm>
          <a:prstGeom prst="rect">
            <a:avLst/>
          </a:prstGeom>
          <a:solidFill>
            <a:srgbClr val="fecd66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5-11</a:t>
            </a:r>
            <a:endParaRPr b="0" lang="en-US" sz="1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465120" y="1544760"/>
            <a:ext cx="1531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63a84"/>
                </a:solidFill>
                <a:latin typeface="Arial"/>
              </a:rPr>
              <a:t>RESULTS</a:t>
            </a:r>
            <a:endParaRPr b="0" lang="en-US" sz="25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3500280" y="2103480"/>
            <a:ext cx="22813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bination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cies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401760" y="3398760"/>
            <a:ext cx="202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3551400" y="2967120"/>
            <a:ext cx="452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5138640" y="2967120"/>
            <a:ext cx="693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5%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4325760" y="3627360"/>
            <a:ext cx="6303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3056040" y="4998960"/>
            <a:ext cx="210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4516560" y="4998960"/>
            <a:ext cx="274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n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6078600" y="4998960"/>
            <a:ext cx="3128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g</a:t>
            </a:r>
            <a:endParaRPr b="0" lang="en-US" sz="24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66" name="Line 18"/>
          <p:cNvSpPr/>
          <p:nvPr/>
        </p:nvSpPr>
        <p:spPr>
          <a:xfrm>
            <a:off x="1320840" y="3759120"/>
            <a:ext cx="355680" cy="49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04480" y="1176480"/>
            <a:ext cx="8534520" cy="32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s that are far apart on the same chromosome can have a recombination frequency near 5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ch genes are physically linked, but genetically unlinked, and behave as if found on different chromos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22716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apping the Distance Between Genes Using Recombination Data: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Scientific Inqui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04480" y="1176120"/>
            <a:ext cx="853452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rtevant used recombination frequencies to make linkage maps of fruit fly 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g methods like chromosomal banding, geneticists can develop cytogenetic maps of chromos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ytogenetic map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icate the positions of genes with respect to chromosomal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9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74" name="Line 40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75" name="Text Box 41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3469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27160" y="763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apping the Distance Between Genes Using Recombination Data: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Scientific Inqui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gibsonbrownr</cp:lastModifiedBy>
  <cp:lastPrinted>2004-11-22T17:37:01Z</cp:lastPrinted>
  <dcterms:modified xsi:type="dcterms:W3CDTF">2010-11-30T03:58:25Z</dcterms:modified>
  <cp:revision>835</cp:revision>
  <dc:subject/>
  <dc:title>video slide</dc:title>
</cp:coreProperties>
</file>